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49.jpeg" ContentType="image/jpeg"/>
  <Override PartName="/ppt/media/image41.png" ContentType="image/png"/>
  <Override PartName="/ppt/media/image53.png" ContentType="image/png"/>
  <Override PartName="/ppt/media/image55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wmf" ContentType="image/x-wmf"/>
  <Override PartName="/ppt/media/image28.jpeg" ContentType="image/jpeg"/>
  <Override PartName="/ppt/media/image51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64C3-DCD6-4E15-8859-8E9D7B66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FB04-A4B8-472B-B82D-3B56364F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049-B718-475A-8DB0-D52FDE5F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0" i="1" lang="en-US" sz="1200" spc="-1" strike="noStrike">
                <a:solidFill>
                  <a:srgbClr val="3c8c93"/>
                </a:solidFill>
                <a:latin typeface="Arial"/>
              </a:rPr>
              <a:t>conversations</a:t>
            </a:r>
            <a:r>
              <a:rPr b="0" i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0" i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3c8c93"/>
                </a:solidFill>
                <a:latin typeface="Arial"/>
              </a:rPr>
              <a:t>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E91-E520-4E73-9E89-1E6E42B2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online as we do face to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057-7501-4A18-A27D-1A185A1F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F2E-B216-4005-9D6E-F1442B4C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FC77-B8C8-49D3-95FE-BD955822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8E07-FC4E-45B1-87C4-013E1AAF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C38-DE55-411A-A4D1-56074CC76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1CA-54D6-40ED-AD3D-3006B776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624-F218-4842-AAFF-3F55A454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8009F-E5AE-4D97-BF1E-AD1BEAE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67623-1217-4761-9D51-EC0A769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CC2AA-EC7D-4B79-8E7C-74CFFDAF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5F94B-DE29-4576-9F30-A219AED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3D905-102D-4299-A2EE-7BE82B4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CD532-49DD-49E9-BE41-3C6D47E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FB10E-4208-42E0-A978-E33D54A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8CA75-8F9B-4843-B736-CBA7F864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EB95D-69C9-44F6-9B4C-A4239BBE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289D7-737B-48A8-A979-01B2C13E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618-BFF4-40FF-8AEF-FF76AC6E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77380-7A2D-4017-955E-5F6CBF0D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39924-2D5A-4691-9527-FC4EAAB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3B823-177D-4951-B3C1-93A895A0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21BE1-E4DE-4AD9-ACE0-B4E0D469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A766A-205D-46C7-A4EB-4097785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44484-4A16-4785-848A-34C81D92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FF297-6CE8-4881-BEAC-8184D26D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21FE4-2874-4C7D-93AF-C83630FC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C3DCF-3A70-4DCD-BF85-997F92D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04013-632D-41C4-9EBA-2EF8F7F2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9D2-1F79-4C56-9CA2-75C5E1DB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42B2B-1C9E-44B2-AEC8-181E805C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1613-B016-4776-AB14-226613A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742C7-9A95-4DC3-B354-60C82AA0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9793B-ABF4-4858-B3E9-BD41D441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3741D-DBA0-4416-ADA4-F8066DA0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36DE0-6AEB-4920-A138-5747041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8A00D-C5EE-4EAA-92AC-AD1FA4B1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3B0AE-73AD-49C2-BB09-8D0CA20D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57753-D783-41A2-840A-1DF10A0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F089-1C77-4DE7-8CDC-7FB8909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1CEC-BC54-4D0D-8BDB-7EFEC333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1BA3F-46E9-4350-93AD-FD062EC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74FA9-665C-4B2A-8C29-260ABC1F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F19F-4DF7-473C-83BE-D23D04CC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7958F-390F-4A5E-8776-33043238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ED93E-3804-47BB-8413-2B69A1F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A05A1-2A0C-4CED-B773-69BEE2AB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7C339-C656-4A28-9E10-6675F8F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6D906-431D-4FAB-9A26-E41254DE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03896-7BEE-4E53-BA06-B99FD65A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B2210-2233-42BE-9FBF-AF4AD22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F65A-82F8-4322-9C42-CC83B62B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FE08A-8696-4E3E-9000-B6DD6AC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BD95D-ABFA-4C4E-9424-45CB2A8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0238F-D922-4215-B0D1-12A5ED1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68D02-D4A6-4017-95D9-0F2BA061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F0133-0AC6-4EE3-8004-3025EFDA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8E21C-1C22-4423-8A17-2285B6F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6A652-55B4-42AD-AC83-E16748CF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36BFC-87A8-4067-96E6-0EBB043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4B2EF-FED9-45BE-9F0E-90ECF0CC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D3394-E215-4C47-9C3D-45CC311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3CE-2FB5-4794-9F3A-422BFCA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4160D-BCF2-4543-9565-87DB016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C08DB-C4CB-4849-B736-E35B1B9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CB7D9-3639-44B0-9788-2AA8CC5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EE80D-E4B3-4983-87B7-48D9A5AA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6CC0E-1C67-4639-9C34-86B4795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2CB8E-CF6B-4903-B8E3-5035549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25841-EF24-48F5-81CE-E8D5289E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1EEB6-A518-4054-A324-02E41AB5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100FF-BF5F-480F-8FE3-BC08B55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1B23F-554B-4547-91C4-63C20265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033E-565C-4C7C-8FEF-C7AC96BD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EA970-2EA4-4CA3-B13E-54E544E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6C3B7-408D-419D-9CDD-C878ED70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329A4-C632-4694-839E-CDC3C6FE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96D6B-0927-469E-BF1F-826A918D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E4EBB-A0CD-4757-B491-522A4F8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54509-CFB4-4E12-8F2C-501A3E31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B46C3-729D-4ECC-8EEC-FA657DF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AFB3E-0BC7-4955-A318-247FC80F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E9B45-A794-49F1-9C6E-F35F4EB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D73-05B5-4F38-BDB0-0895145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EFB9-B0DB-4745-9320-E3924D9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876A-FC20-42F3-B998-0F1A867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E41-92EC-4959-BC8B-DE02A798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BAA-D231-4CCF-B345-062D105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90E-9B4D-439E-A21C-762B745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D84-B1DD-42FD-8E65-0045560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B152-1FF3-4EEF-A3CD-37E6D7B3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A3D7-BC50-4FE5-814E-D62D60D4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FFDA-F8F3-4AB6-AC0F-A49D2098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2BCC-339B-45A0-9BE2-DE077F2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99DA-8BE6-4935-8AC0-CA1F44A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61C6-DDB8-4E22-B469-F7032BD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B457-1BF9-486B-B902-AAC2093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5BA-6505-43B5-AF3D-977A60A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3813-91D5-4E18-A14B-C87CC351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6519-04BF-4785-91E3-FF38876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2CCC-7ECF-404A-99A3-CBC17DB5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7FEC-AF90-4E3A-B290-3B0EAF6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DA92-07C2-43A7-B3D2-374517D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5677-B116-4DF1-8C35-E8BF4B1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8BB1-3764-4141-88DA-82844653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6483-B931-49C6-8FA9-04C08D2A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596B-AE31-4750-9F29-85BC9A8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CA9A-7DAB-48D8-9512-3BC8752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B6E-5E7A-4AC4-A790-AA0A90AA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8E1F-CBC2-4F40-8DD4-3485804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FBBB-44D8-47C3-AA26-573B0EC7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70E4-3D0A-4774-8750-E40D9B11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C1F7-8321-4ACE-B8BB-66CDB0E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C6D5-42DB-4EAD-9A5E-D45782E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27A1-AAEB-452A-8B31-70931AA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1324-C16E-4A35-9E1D-C4763C42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0E67-DD3D-47B0-87CF-17E15D36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ACAE-8DD2-425A-964A-5CD8B5B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7CB6-6C79-49F6-BD72-CFD1604E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C9F-A511-4A01-A7AC-006A4D1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40A8-4C27-49BC-A781-7085925E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D508-E15B-4ECE-B756-8513FA8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A7D1-B93D-4E75-942C-A178F289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51EF-73A0-49B5-B55B-A987049F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48CA-F662-4090-8A85-CEFE8906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BAFD0-FC4A-4951-89CC-101C0998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9AD6-754D-4577-AF51-6D8358F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68A3-4B6C-4D24-80E7-345068A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A2BD-E852-4CC1-BC91-DF89507E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6CDB-181C-4231-898F-22620299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947-6093-4599-BE37-DA28E6A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73F4-D920-445B-A5E2-C604055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86A32-461B-4039-9EDA-52B0B623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8ECF5-15AA-4D07-AA53-34EA3D4D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21FB-CDB0-421D-B032-9BDB149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8C2D-BAF8-401D-9ADB-9423CFA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302A-9AE0-4D0E-BC19-A0F93D32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3805-FDCB-4041-90C0-999C3260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6484-7414-4848-AE28-87E16BF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2C8B-3334-462B-BCBF-7DFF39F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82AE3-6B97-4DE4-899E-4F1CEA8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397-129C-4DF5-838E-85DD328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C9F9-A861-4909-AF2F-687902A4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A163-9EE3-4D30-AD19-1D9A2DC6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13E2B-BBFE-4DEA-8947-CAAB4855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C0F2E-DCD3-48CC-9AAC-1D17C4E6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F51D-1B6D-4465-A375-0CD20508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696F-5681-4D6A-9B74-F3D9B90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3764-5294-4392-8724-C4DE5A7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A957-3EEF-475F-8989-6ED3D938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6DB8-2196-4403-A877-4C1B428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A8B3-0A0C-46E1-BC63-2EC2BD9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688-AC5C-4CE9-9EAF-0073080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759B-A95D-4089-A8A4-ECC967A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EAC2-8887-4CBC-AB20-15F24716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100CD-C508-4765-83F4-5338C0D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5B8E-ED47-4BCC-A9C6-F17D3B6E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9A2D5-54E3-42D0-9205-8D50B81D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B6F6-9970-4F55-BF46-D19957A2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CBA8-3E83-4C0B-9702-AB42D775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2779A-1F33-47C1-B9A1-DCC06A2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1CFB-D419-4584-A07C-289EE13F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B3FCC-F4FF-41A0-BE7F-B6D88CA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8BE-5CB7-4165-8D10-597FF3D1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AAB1C-E3DB-4D14-B5EC-55A5B5F1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328A4-0A15-41B0-AE19-0F4FDE4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24F5-4868-4167-A20D-02C3348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F0917-609C-446F-863E-DFC7BE5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EB92-6985-4042-927E-8B211CD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B9AB6-EA2C-45AC-84F6-F1D55A72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374E-B4AA-48F7-8BF8-C08AD21D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4846E-5CB6-43BB-927A-8C7E901E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F0782-FDD9-457B-9377-49C9433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65C68-026A-4BAE-B3A8-F849478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9D31-E101-450F-B3FF-D07D45D77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EC0-E0BB-400F-B671-8E674F7D4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1F47-AC70-43A4-A290-F6A58BC75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0869-D59B-48CC-A45F-FFEA05EB4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9A3-D35B-4C77-AC7A-C317B7530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9D26-112D-41BB-9FAF-D252F6981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5D2-EE34-4249-8BB5-22DC0E99D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2BD1-97A5-4455-BCE7-5B2878E58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436-EBFB-446C-BEF4-0D3ACBCD0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90BC-2706-407B-AC43-7672AF6E2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6E0A-2814-4702-BF21-4DC8FC9CF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C68A-D4FA-4E61-A1CF-B71E00941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BE7-2F92-4B64-BC8C-25AD5E5CAE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6C3-74C5-41AE-A552-AC882CD59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41.png"/><Relationship Id="rId2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1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Growing up Digital</a:t>
            </a:r>
            <a:br>
              <a:rPr sz="3800"/>
            </a:b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hat makes our kids “click”?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4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684360" y="2708280"/>
            <a:ext cx="3382920" cy="3384720"/>
          </a:xfrm>
          <a:prstGeom prst="rect">
            <a:avLst/>
          </a:prstGeom>
          <a:ln w="0">
            <a:noFill/>
          </a:ln>
        </p:spPr>
      </p:pic>
      <p:sp>
        <p:nvSpPr>
          <p:cNvPr id="715" name="TextBox 4"/>
          <p:cNvSpPr/>
          <p:nvPr/>
        </p:nvSpPr>
        <p:spPr>
          <a:xfrm>
            <a:off x="5292720" y="3600360"/>
            <a:ext cx="3097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inetree Way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nuary 20, 20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The Places They Go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2" name="Picture 8" descr="MCj03126460000[1]"/>
          <p:cNvPicPr/>
          <p:nvPr/>
        </p:nvPicPr>
        <p:blipFill>
          <a:blip r:embed="rId1"/>
          <a:stretch/>
        </p:blipFill>
        <p:spPr>
          <a:xfrm>
            <a:off x="3708360" y="2457360"/>
            <a:ext cx="2071800" cy="2111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 rot="20639400">
            <a:off x="4835160" y="50101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963360" y="5402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2938320" y="3841920"/>
            <a:ext cx="1192320" cy="12078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6" descr="images3.jpg"/>
          <p:cNvPicPr/>
          <p:nvPr/>
        </p:nvPicPr>
        <p:blipFill>
          <a:blip r:embed="rId5"/>
          <a:stretch/>
        </p:blipFill>
        <p:spPr>
          <a:xfrm>
            <a:off x="1562040" y="3013200"/>
            <a:ext cx="1727280" cy="1001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8" descr="imagesCAKTRLBD.jpg"/>
          <p:cNvPicPr/>
          <p:nvPr/>
        </p:nvPicPr>
        <p:blipFill>
          <a:blip r:embed="rId6"/>
          <a:stretch/>
        </p:blipFill>
        <p:spPr>
          <a:xfrm>
            <a:off x="3405240" y="5049720"/>
            <a:ext cx="1700280" cy="1535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9" descr="imagesCAOEUU8Y.jpg"/>
          <p:cNvPicPr/>
          <p:nvPr/>
        </p:nvPicPr>
        <p:blipFill>
          <a:blip r:embed="rId7"/>
          <a:stretch/>
        </p:blipFill>
        <p:spPr>
          <a:xfrm rot="20436600">
            <a:off x="731520" y="1301400"/>
            <a:ext cx="1625400" cy="97488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1" descr="imagesCA7FS46N.jpg"/>
          <p:cNvPicPr/>
          <p:nvPr/>
        </p:nvPicPr>
        <p:blipFill>
          <a:blip r:embed="rId8"/>
          <a:stretch/>
        </p:blipFill>
        <p:spPr>
          <a:xfrm rot="1389000">
            <a:off x="7584840" y="413712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7" descr="images.jpg"/>
          <p:cNvPicPr/>
          <p:nvPr/>
        </p:nvPicPr>
        <p:blipFill>
          <a:blip r:embed="rId9"/>
          <a:stretch/>
        </p:blipFill>
        <p:spPr>
          <a:xfrm rot="954000">
            <a:off x="6621120" y="15652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2" descr="imagesCAN03YNH.jpg"/>
          <p:cNvPicPr/>
          <p:nvPr/>
        </p:nvPicPr>
        <p:blipFill>
          <a:blip r:embed="rId10"/>
          <a:stretch/>
        </p:blipFill>
        <p:spPr>
          <a:xfrm>
            <a:off x="6802560" y="53928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4" descr="imagesCAOF6IPG.jpg"/>
          <p:cNvPicPr/>
          <p:nvPr/>
        </p:nvPicPr>
        <p:blipFill>
          <a:blip r:embed="rId12"/>
          <a:stretch/>
        </p:blipFill>
        <p:spPr>
          <a:xfrm>
            <a:off x="7694640" y="28656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6" descr="imagesCA71CM7J.jpg"/>
          <p:cNvPicPr/>
          <p:nvPr/>
        </p:nvPicPr>
        <p:blipFill>
          <a:blip r:embed="rId13"/>
          <a:stretch/>
        </p:blipFill>
        <p:spPr>
          <a:xfrm>
            <a:off x="6099120" y="21034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7" descr="imagesCAW4N5TV.jpg"/>
          <p:cNvPicPr/>
          <p:nvPr/>
        </p:nvPicPr>
        <p:blipFill>
          <a:blip r:embed="rId14"/>
          <a:stretch/>
        </p:blipFill>
        <p:spPr>
          <a:xfrm>
            <a:off x="411120" y="4048200"/>
            <a:ext cx="2247840" cy="14954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"/>
          <p:cNvPicPr/>
          <p:nvPr/>
        </p:nvPicPr>
        <p:blipFill>
          <a:blip r:embed="rId15"/>
          <a:stretch/>
        </p:blipFill>
        <p:spPr>
          <a:xfrm>
            <a:off x="7186680" y="146160"/>
            <a:ext cx="1566720" cy="11728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"/>
          <p:cNvPicPr/>
          <p:nvPr/>
        </p:nvPicPr>
        <p:blipFill>
          <a:blip r:embed="rId16"/>
          <a:stretch/>
        </p:blipFill>
        <p:spPr>
          <a:xfrm>
            <a:off x="468360" y="87480"/>
            <a:ext cx="1611360" cy="12906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17"/>
          <a:stretch/>
        </p:blipFill>
        <p:spPr>
          <a:xfrm>
            <a:off x="2922480" y="1319040"/>
            <a:ext cx="1543320" cy="15433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" descr=""/>
          <p:cNvPicPr/>
          <p:nvPr/>
        </p:nvPicPr>
        <p:blipFill>
          <a:blip r:embed="rId18"/>
          <a:stretch/>
        </p:blipFill>
        <p:spPr>
          <a:xfrm>
            <a:off x="5827680" y="3460680"/>
            <a:ext cx="1335240" cy="13352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" descr=""/>
          <p:cNvPicPr/>
          <p:nvPr/>
        </p:nvPicPr>
        <p:blipFill>
          <a:blip r:embed="rId19"/>
          <a:stretch/>
        </p:blipFill>
        <p:spPr>
          <a:xfrm>
            <a:off x="4130640" y="1312920"/>
            <a:ext cx="249228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Lucida Bright"/>
              </a:rPr>
              <a:t>The Challenges they fa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2" name="TextBox 5"/>
          <p:cNvSpPr/>
          <p:nvPr/>
        </p:nvSpPr>
        <p:spPr>
          <a:xfrm>
            <a:off x="250920" y="270828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appropriate Social Bhvr. (CyberBully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vacy issues (Perman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" descr=""/>
          <p:cNvPicPr/>
          <p:nvPr/>
        </p:nvPicPr>
        <p:blipFill>
          <a:blip r:embed="rId1"/>
          <a:stretch/>
        </p:blipFill>
        <p:spPr>
          <a:xfrm>
            <a:off x="6300720" y="3600360"/>
            <a:ext cx="2548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e know what </a:t>
            </a:r>
            <a:r>
              <a:rPr b="0" lang="en-US" sz="3800" spc="-1" strike="noStrike">
                <a:solidFill>
                  <a:srgbClr val="00b050"/>
                </a:solidFill>
                <a:latin typeface="Georgia"/>
              </a:rPr>
              <a:t>“WE” </a:t>
            </a: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want for our children…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TextBox 3"/>
          <p:cNvSpPr/>
          <p:nvPr/>
        </p:nvSpPr>
        <p:spPr>
          <a:xfrm>
            <a:off x="140328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1" descr=""/>
          <p:cNvPicPr/>
          <p:nvPr/>
        </p:nvPicPr>
        <p:blipFill>
          <a:blip r:embed="rId1"/>
          <a:stretch/>
        </p:blipFill>
        <p:spPr>
          <a:xfrm>
            <a:off x="2371680" y="2852640"/>
            <a:ext cx="42861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16000" y="157320"/>
            <a:ext cx="7300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We Need to Parent…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0800" y="1550880"/>
            <a:ext cx="8721720" cy="5307120"/>
          </a:xfrm>
          <a:prstGeom prst="rect">
            <a:avLst/>
          </a:prstGeom>
          <a:noFill/>
          <a:ln w="9360">
            <a:solidFill>
              <a:srgbClr val="712d1c"/>
            </a:solidFill>
            <a:miter/>
          </a:ln>
        </p:spPr>
        <p:txBody>
          <a:bodyPr anchor="t">
            <a:normAutofit/>
          </a:bodyPr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Generate </a:t>
            </a:r>
            <a:r>
              <a:rPr b="1" lang="en-US" sz="3200" spc="-1" strike="noStrike">
                <a:solidFill>
                  <a:srgbClr val="712d1c"/>
                </a:solidFill>
                <a:latin typeface="Georgia"/>
              </a:rPr>
              <a:t>expectations</a:t>
            </a:r>
            <a:r>
              <a:rPr b="1" lang="en-US" sz="3200" spc="-1" strike="noStrike">
                <a:solidFill>
                  <a:srgbClr val="646b86"/>
                </a:solidFill>
                <a:latin typeface="Georgia"/>
              </a:rPr>
              <a:t> (</a:t>
            </a: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Proactiv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1208160" indent="-3510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- Where do you allow tech use in your hom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t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- What is appropriate for you and your value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wn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How much is enough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lanc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What else do they need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ivacy control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What are these??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208160" indent="-351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1208160" indent="-351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9" name="Picture 5" descr="C:\Users\dsands\AppData\Local\Microsoft\Windows\Temporary Internet Files\Content.Outlook\JKNHDH7G\photo (7).JPG"/>
          <p:cNvPicPr/>
          <p:nvPr/>
        </p:nvPicPr>
        <p:blipFill>
          <a:blip r:embed="rId1"/>
          <a:stretch/>
        </p:blipFill>
        <p:spPr>
          <a:xfrm>
            <a:off x="6372360" y="4365720"/>
            <a:ext cx="2520720" cy="18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700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f you wouldn’t say it in person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Parenting 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2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Establish a response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plan” </a:t>
            </a: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(Reactive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12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gical consequenc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issues as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learning opportunitie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 available to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“support not punish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342720">
              <a:spcBef>
                <a:spcPts val="7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serve your </a:t>
            </a:r>
            <a:r>
              <a:rPr b="0" lang="en-US" sz="3200" spc="-1" strike="noStrike">
                <a:solidFill>
                  <a:srgbClr val="00b050"/>
                </a:solidFill>
                <a:latin typeface="Georgia"/>
              </a:rPr>
              <a:t>relationship and attachment</a:t>
            </a:r>
            <a:r>
              <a:rPr b="0" lang="en-US" sz="3200" spc="-1" strike="noStrike">
                <a:solidFill>
                  <a:srgbClr val="0070c0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mana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826920" y="1139400"/>
            <a:ext cx="67327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 rot="888600">
            <a:off x="5908680" y="145260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" descr=""/>
          <p:cNvPicPr/>
          <p:nvPr/>
        </p:nvPicPr>
        <p:blipFill>
          <a:blip r:embed="rId2"/>
          <a:stretch/>
        </p:blipFill>
        <p:spPr>
          <a:xfrm>
            <a:off x="3147840" y="467676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7" descr=""/>
          <p:cNvPicPr/>
          <p:nvPr/>
        </p:nvPicPr>
        <p:blipFill>
          <a:blip r:embed="rId3"/>
          <a:stretch/>
        </p:blipFill>
        <p:spPr>
          <a:xfrm>
            <a:off x="5437080" y="3327480"/>
            <a:ext cx="2814840" cy="2803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"/>
          <p:cNvPicPr/>
          <p:nvPr/>
        </p:nvPicPr>
        <p:blipFill>
          <a:blip r:embed="rId4"/>
          <a:stretch/>
        </p:blipFill>
        <p:spPr>
          <a:xfrm>
            <a:off x="2970360" y="273204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"/>
          <p:cNvPicPr/>
          <p:nvPr/>
        </p:nvPicPr>
        <p:blipFill>
          <a:blip r:embed="rId5"/>
          <a:stretch/>
        </p:blipFill>
        <p:spPr>
          <a:xfrm>
            <a:off x="611280" y="3244680"/>
            <a:ext cx="2138400" cy="2857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10" descr=""/>
          <p:cNvPicPr/>
          <p:nvPr/>
        </p:nvPicPr>
        <p:blipFill>
          <a:blip r:embed="rId6"/>
          <a:stretch/>
        </p:blipFill>
        <p:spPr>
          <a:xfrm>
            <a:off x="662040" y="1452600"/>
            <a:ext cx="2098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-25560" y="475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ink before you pos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030a0"/>
                </a:solidFill>
                <a:latin typeface="Georgia"/>
              </a:rPr>
              <a:t>Be Involved and connected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t onlin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act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y game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tch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eat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age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0" lang="en-US" sz="4400" spc="-1" strike="noStrike">
                <a:solidFill>
                  <a:srgbClr val="7030a0"/>
                </a:solidFill>
                <a:latin typeface="Georgia"/>
              </a:rPr>
              <a:t>with THEM!</a:t>
            </a:r>
            <a:endParaRPr b="0" lang="en-US" sz="4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6" name="Picture 1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478944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images.jpg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"/>
          <p:cNvPicPr/>
          <p:nvPr/>
        </p:nvPicPr>
        <p:blipFill>
          <a:blip r:embed="rId3"/>
          <a:stretch/>
        </p:blipFill>
        <p:spPr>
          <a:xfrm>
            <a:off x="3174840" y="2924280"/>
            <a:ext cx="5888160" cy="36813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4"/>
          <a:stretch/>
        </p:blipFill>
        <p:spPr>
          <a:xfrm>
            <a:off x="7020000" y="428760"/>
            <a:ext cx="1671480" cy="22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468000" y="404280"/>
            <a:ext cx="8132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eorgia"/>
              </a:rPr>
              <a:t>Why does it matter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371520" y="160164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672000" cy="24386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"/>
          <p:cNvPicPr/>
          <p:nvPr/>
        </p:nvPicPr>
        <p:blipFill>
          <a:blip r:embed="rId3"/>
          <a:stretch/>
        </p:blipFill>
        <p:spPr>
          <a:xfrm>
            <a:off x="2987640" y="3571920"/>
            <a:ext cx="343368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Contact information and Re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539280" y="1915920"/>
            <a:ext cx="860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ve Sand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dsands@sd43.bc.ca or dave.h.sands@gmail.com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http://connectandprotect.wikispaces.com/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it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550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@dhsa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stagr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thelegitsandma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615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50"/>
                </a:solidFill>
                <a:latin typeface="Georgia"/>
              </a:rPr>
              <a:t>Homework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isit my </a:t>
            </a: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Wiki pag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look at 3 different articles/vide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 online and establish 3 new accounts on </a:t>
            </a: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web 2.0 tool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Georgia"/>
              </a:rPr>
              <a:t>Talk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o your child/ren about one or more of these tool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3030480" cy="24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arning Inten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9492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gain a better understanding of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ildre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thei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xamine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ildren’s us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echnolog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increase our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awarenes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the potential dangers and challenges around technology u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provide you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support and resourc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better understand these issu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ncourage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practical, proactive strategi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pport your children around healthy technology u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3" descr="The Bridge"/>
          <p:cNvPicPr/>
          <p:nvPr/>
        </p:nvPicPr>
        <p:blipFill>
          <a:blip r:embed="rId1"/>
          <a:stretch/>
        </p:blipFill>
        <p:spPr>
          <a:xfrm>
            <a:off x="2600280" y="3476520"/>
            <a:ext cx="3019320" cy="22291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32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member When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24" name="Picture 7" descr="Fred Flintstone"/>
          <p:cNvPicPr/>
          <p:nvPr/>
        </p:nvPicPr>
        <p:blipFill>
          <a:blip r:embed="rId2"/>
          <a:stretch/>
        </p:blipFill>
        <p:spPr>
          <a:xfrm rot="21033600">
            <a:off x="1073160" y="3897360"/>
            <a:ext cx="1238400" cy="238104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5" descr="jeannie001"/>
          <p:cNvPicPr/>
          <p:nvPr/>
        </p:nvPicPr>
        <p:blipFill>
          <a:blip r:embed="rId3"/>
          <a:stretch/>
        </p:blipFill>
        <p:spPr>
          <a:xfrm rot="20797800">
            <a:off x="5203800" y="157932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7" descr="elvis-portrait3sm"/>
          <p:cNvPicPr/>
          <p:nvPr/>
        </p:nvPicPr>
        <p:blipFill>
          <a:blip r:embed="rId4"/>
          <a:stretch/>
        </p:blipFill>
        <p:spPr>
          <a:xfrm>
            <a:off x="7726320" y="234648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9" descr="Woodstock Festival Remembered"/>
          <p:cNvPicPr/>
          <p:nvPr/>
        </p:nvPicPr>
        <p:blipFill>
          <a:blip r:embed="rId5"/>
          <a:stretch/>
        </p:blipFill>
        <p:spPr>
          <a:xfrm rot="604200">
            <a:off x="6254280" y="363996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photo_GEORGE"/>
          <p:cNvPicPr/>
          <p:nvPr/>
        </p:nvPicPr>
        <p:blipFill>
          <a:blip r:embed="rId6"/>
          <a:stretch/>
        </p:blipFill>
        <p:spPr>
          <a:xfrm>
            <a:off x="5162400" y="4687920"/>
            <a:ext cx="1629000" cy="1276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1" descr="Happy days.jpg"/>
          <p:cNvPicPr/>
          <p:nvPr/>
        </p:nvPicPr>
        <p:blipFill>
          <a:blip r:embed="rId7"/>
          <a:stretch/>
        </p:blipFill>
        <p:spPr>
          <a:xfrm>
            <a:off x="306360" y="1371600"/>
            <a:ext cx="1386000" cy="974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2" descr="gilligans-island-season-2.jpg"/>
          <p:cNvPicPr/>
          <p:nvPr/>
        </p:nvPicPr>
        <p:blipFill>
          <a:blip r:embed="rId8"/>
          <a:stretch/>
        </p:blipFill>
        <p:spPr>
          <a:xfrm rot="529200">
            <a:off x="6595920" y="790560"/>
            <a:ext cx="1559160" cy="1817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3" descr="Rubics cube.jpg"/>
          <p:cNvPicPr/>
          <p:nvPr/>
        </p:nvPicPr>
        <p:blipFill>
          <a:blip r:embed="rId9"/>
          <a:stretch/>
        </p:blipFill>
        <p:spPr>
          <a:xfrm>
            <a:off x="2498760" y="1033560"/>
            <a:ext cx="1047600" cy="11142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Atari_2600.png"/>
          <p:cNvPicPr/>
          <p:nvPr/>
        </p:nvPicPr>
        <p:blipFill>
          <a:blip r:embed="rId10"/>
          <a:stretch/>
        </p:blipFill>
        <p:spPr>
          <a:xfrm>
            <a:off x="7137360" y="4815000"/>
            <a:ext cx="1774800" cy="1780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" descr=""/>
          <p:cNvPicPr/>
          <p:nvPr/>
        </p:nvPicPr>
        <p:blipFill>
          <a:blip r:embed="rId11"/>
          <a:stretch/>
        </p:blipFill>
        <p:spPr>
          <a:xfrm>
            <a:off x="635040" y="2147760"/>
            <a:ext cx="2114640" cy="21621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" descr=""/>
          <p:cNvPicPr/>
          <p:nvPr/>
        </p:nvPicPr>
        <p:blipFill>
          <a:blip r:embed="rId12"/>
          <a:stretch/>
        </p:blipFill>
        <p:spPr>
          <a:xfrm>
            <a:off x="3244680" y="5087880"/>
            <a:ext cx="1917720" cy="1179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"/>
          <p:cNvPicPr/>
          <p:nvPr/>
        </p:nvPicPr>
        <p:blipFill>
          <a:blip r:embed="rId13"/>
          <a:stretch/>
        </p:blipFill>
        <p:spPr>
          <a:xfrm>
            <a:off x="3056040" y="1928880"/>
            <a:ext cx="2106360" cy="15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7b9899"/>
                </a:solidFill>
                <a:latin typeface="Georgia"/>
              </a:rPr>
              <a:t>The World has changed</a:t>
            </a: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55640" y="1458720"/>
            <a:ext cx="39225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For Our Children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hey have </a:t>
            </a: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never not know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the Intern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Informatio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is fre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Communication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is seam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hey are wireless, yet always </a:t>
            </a:r>
            <a:r>
              <a:rPr b="0" lang="en-US" sz="2600" spc="-1" strike="noStrike">
                <a:solidFill>
                  <a:srgbClr val="7030a0"/>
                </a:solidFill>
                <a:latin typeface="Georgia"/>
              </a:rPr>
              <a:t>connected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5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4714920" y="1916280"/>
            <a:ext cx="405936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Fourth Scre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66560" y="1122120"/>
            <a:ext cx="417528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Google”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as always been a ver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Text messaging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s their e-ma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ey are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never alone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ave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rarely mailed 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ything using a stam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2" name="Picture 1" descr=""/>
          <p:cNvPicPr/>
          <p:nvPr/>
        </p:nvPicPr>
        <p:blipFill>
          <a:blip r:embed="rId1"/>
          <a:stretch/>
        </p:blipFill>
        <p:spPr>
          <a:xfrm>
            <a:off x="5003640" y="1298520"/>
            <a:ext cx="3794400" cy="4178520"/>
          </a:xfrm>
          <a:prstGeom prst="rect">
            <a:avLst/>
          </a:prstGeom>
          <a:ln w="0">
            <a:noFill/>
          </a:ln>
        </p:spPr>
      </p:pic>
      <p:sp>
        <p:nvSpPr>
          <p:cNvPr id="743" name="TextBox 1"/>
          <p:cNvSpPr/>
          <p:nvPr/>
        </p:nvSpPr>
        <p:spPr>
          <a:xfrm>
            <a:off x="1042920" y="40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The Net Gener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What are their 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need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828720" y="1484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though the world has changed dramatically, our kids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“needs”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ain the sam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746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7b9899"/>
                </a:solidFill>
                <a:latin typeface="Georgia"/>
              </a:rPr>
              <a:t>Why do they go online/use technology?</a:t>
            </a:r>
            <a:br>
              <a:rPr sz="3200"/>
            </a:br>
            <a:r>
              <a:rPr b="1" lang="en-US" sz="3200" spc="-1" strike="noStrike">
                <a:solidFill>
                  <a:srgbClr val="7b9899"/>
                </a:solidFill>
                <a:latin typeface="Georgia"/>
              </a:rPr>
              <a:t>What “needs” does it meet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371240" y="1413000"/>
            <a:ext cx="3848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ven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nse of Belo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ing he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0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7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7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7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6-01-21T00:10:16Z</dcterms:modified>
  <cp:revision>132</cp:revision>
  <dc:subject/>
  <dc:title>Technology, kids and you</dc:title>
</cp:coreProperties>
</file>